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8743C-9F74-4796-9E7C-D245575C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33235-1C31-47FD-9D8A-2EEC0C91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8A771-F01E-4A34-9238-B26EB33D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9B278-CE14-46D4-88BB-08F90679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8D19-8E8B-45CF-9BAE-4876408E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2A07-E738-4AB0-BC7D-2628E00F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89D5-6B28-4D6B-8C33-85098861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8CCC-F9BC-48F2-8F61-E33199A0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6E1F-2628-42C9-AE25-C0EFC7A2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2AFE-0ACA-4B47-9F28-C81DC71C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90E3-6D00-4815-8612-E394BCCD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25738-0047-4196-8253-4260E853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8D8A-5376-4937-87C0-E246A2CF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74C8-C3C0-45E1-BEAF-B4C96F22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B399-0DE3-410E-AC5A-F15FAC8B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6796-D187-406C-A355-5867D02D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E943-A47D-44F7-A15A-3A3238DE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BA366-14A6-4020-83AF-0FD5AB9B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66E3-71F5-41E2-99EB-80EB7342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E0358-76D9-42AC-A2A6-C845C197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75175-67B3-47C3-90FF-5B2E08AC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A7EBE-45AC-40BD-A907-B7AC4359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52E29-7738-487D-AB42-B8C644F4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C7FBC-1486-4D55-A8F9-A3E68EE5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8511-5334-400C-8C49-7FF4BBFFE67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38BD-FD48-4119-8656-50F01C49F84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Три птичницы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73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АРТОЧКА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Где живут куры с цыплята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 Кто ухаживает за кура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 Как питомцы реагируют на зов птичниц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. Какую картину автор нашёл забавн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. Кто охраняет птичий дво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АРТОЧКА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. Почему  сторож - щенок засыпа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. Догадались ли вы, кто эта другая птичниц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КАРТОЧКА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 Как вы думаете, повезёт ли лисице на сей раз или снова уйдёт со двора несолоно хлебавши? Придумайте продолжение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6:06:44Z</dcterms:created>
  <dc:creator>1</dc:creator>
  <dc:description/>
  <dc:language>en-US</dc:language>
  <cp:lastModifiedBy>1</cp:lastModifiedBy>
  <dcterms:modified xsi:type="dcterms:W3CDTF">2011-01-25T18:34:06Z</dcterms:modified>
  <cp:revision>7</cp:revision>
  <dc:subject/>
  <dc:title>Три птичницы.</dc:title>
</cp:coreProperties>
</file>